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38636"/>
        <c:axId val="50141137"/>
      </c:barChart>
      <c:catAx>
        <c:axId val="58838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41137"/>
        <c:crosses val="autoZero"/>
        <c:auto val="1"/>
        <c:lblAlgn val="ctr"/>
        <c:lblOffset val="100"/>
        <c:noMultiLvlLbl val="0"/>
      </c:catAx>
      <c:valAx>
        <c:axId val="50141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8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972-00EA-453D-9E58-9CE6BFC8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B2E-2503-42A3-9C41-B7E66D38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79D-9533-4417-BAA1-2FAFE3CD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A93-F71F-46EB-9463-CC8CF56D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59D-5F48-41C1-AAFA-89058CA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04D-D8ED-4E9B-AFCF-4464EB2A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275-28F7-4EFA-BB5D-4D16DCF4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2F3-6B46-4E5B-8A32-DE3266D9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F26-6137-4AD3-AB29-956C654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4A4-7740-44B3-9C9C-1DF93A5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E7D-C19A-4E7E-9920-E148C9A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50A-11C2-4554-AC53-F51E859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6CD43-4390-4203-9F21-DF9F1F2C9D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