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88859"/>
        <c:axId val="50548797"/>
      </c:barChart>
      <c:catAx>
        <c:axId val="21488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48797"/>
        <c:crosses val="autoZero"/>
        <c:auto val="1"/>
        <c:lblAlgn val="ctr"/>
        <c:lblOffset val="100"/>
        <c:noMultiLvlLbl val="0"/>
      </c:catAx>
      <c:valAx>
        <c:axId val="50548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88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D11-23AD-4B8C-9CEA-1F3AEE7B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C6A-718D-4AF1-93A8-4AC5C9FE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A94-B514-444E-90B9-D7FDB807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870-7242-4A16-A8AC-C0C87187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44E-8DC9-455F-AB92-B445F9BC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5E3-C32A-4A12-B515-F38FE525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3BB-B74D-4B5D-B92D-87244220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191-3397-45E5-BAFC-281872EE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651-B859-4FEA-BDC9-6DEAC620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F8C-5CAF-4171-B685-1DC77626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3F7-ACFB-4DBD-A8FD-71BCBF3B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E96-4024-4C48-B52E-4CC75D9F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B9F77-A434-457F-8744-E500A3EB52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