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02626"/>
        <c:axId val="94921136"/>
      </c:barChart>
      <c:catAx>
        <c:axId val="176026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21136"/>
        <c:crosses val="autoZero"/>
        <c:auto val="1"/>
        <c:lblAlgn val="ctr"/>
        <c:lblOffset val="100"/>
        <c:noMultiLvlLbl val="0"/>
      </c:catAx>
      <c:valAx>
        <c:axId val="94921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02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04E-142E-4EA5-85E6-05A5D3D7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E2C3-666D-4494-8199-7BE44D28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73DB-FE9B-4C24-9F9D-D8C73D88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809E-2FAB-439E-8A82-46421D40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45C-3B01-4AED-95D0-B7D8C9EE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BA1-C7AC-4639-9FE4-5E928B52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30B6-5117-42CF-BCBF-A22F250E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824C-04E7-4591-A8A9-71966694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2EFF-D6B2-4C0E-9507-09A39BC0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091-56BA-4F64-90CB-EF1DF6D4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83C-FC55-4AD2-8E6C-53D70230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761-68E4-4BF6-9C82-8F090A7B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89E34-BE69-408E-BE82-5A6E22C5F9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