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94447"/>
        <c:axId val="27420449"/>
      </c:barChart>
      <c:catAx>
        <c:axId val="11194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20449"/>
        <c:crosses val="autoZero"/>
        <c:auto val="1"/>
        <c:lblAlgn val="ctr"/>
        <c:lblOffset val="100"/>
        <c:noMultiLvlLbl val="0"/>
      </c:catAx>
      <c:valAx>
        <c:axId val="27420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94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F1B-6EB5-458A-92C3-AE340F7D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AC7-985C-4467-A7A0-10EFF82D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DD9-033C-4EA3-8421-6B0032C7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EC1-2089-4575-8518-D03240E8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1F7-1056-4983-8894-E77AB531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DC4-BB92-4FA1-B583-FC93D6E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F93-6F76-425A-B276-B2FB1303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AD5-14C9-4F0F-A9D1-389F9D55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71B-9EF8-423F-920C-5735BECC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5F3-7528-4641-A27B-26FE5856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ECB-31FB-4399-8A1E-F4A304E8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B90-9FDA-4D48-AF46-EA87526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D2E6B-0002-4463-82BC-48082845A4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