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012978"/>
        <c:axId val="30045980"/>
      </c:barChart>
      <c:catAx>
        <c:axId val="410129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45980"/>
        <c:crosses val="autoZero"/>
        <c:auto val="1"/>
        <c:lblAlgn val="ctr"/>
        <c:lblOffset val="100"/>
        <c:noMultiLvlLbl val="0"/>
      </c:catAx>
      <c:valAx>
        <c:axId val="300459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129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FC5E-BA0D-43D7-9C85-D31E9E436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295F-1515-48B8-8C68-4E23AC85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22E2-9881-4828-B6D5-2B1465807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3FC3-FEBB-411D-839A-3F76A1BE6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B6F1-66BD-4304-BE37-E4BA9E75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6EC3-311F-406F-9A8F-8631D503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0364-F586-4DDE-B47C-E06CFE90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9943-5698-4964-BEED-38080E11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D34B-37C4-4AC8-9F1A-DEF2E61C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6EAA-C163-415E-A26D-B7D0519D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5DA0-714A-4769-BD0F-EC5C3260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156E-5667-4547-A110-E8A25FFA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340CE-5502-4F3B-9233-82FBE3A273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