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1300"/>
        <c:axId val="92943382"/>
      </c:barChart>
      <c:catAx>
        <c:axId val="7561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3382"/>
        <c:crosses val="autoZero"/>
        <c:auto val="1"/>
        <c:lblAlgn val="ctr"/>
        <c:lblOffset val="100"/>
        <c:noMultiLvlLbl val="0"/>
      </c:catAx>
      <c:valAx>
        <c:axId val="92943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C81-237F-4DA6-83F1-1D498146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BDA-4C7D-4FAC-A6DB-64B2A83F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C0E-69A7-4649-B860-E25A2DC7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023-CF76-4827-A5C8-DE5BA5C7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3FD-78D7-4AA6-972B-18D2788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AEC-6D68-44EC-BF6D-4F6CB486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646-E911-4D55-8E1A-F8601E2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915-CFAC-4548-B289-E34C7DF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BD2-4C88-4653-812D-4FC470D4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45A-D1B3-4E21-99ED-C5CA91F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9B7-1B3C-4B18-BA14-D5E571B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136-4816-494D-8FD5-BCC8A61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331F-879E-4C24-9811-14C3441729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